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35FBCC-0808-4ACA-906E-07403FC906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BA9505F-914E-44F3-BC48-71C6B92B7E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AAFAFDD1-0B64-4D0C-A023-4A4096188E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B7555B8-BB16-4C62-8D24-84600CF4B7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FC037E-ED4D-4223-B62E-362E4BF208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AF3809F-3D3C-46B2-90E8-9E60C1283C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147A822-3903-458F-B11A-219CB545BE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C458FA9-AC83-4689-8FCF-08A386D672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171D3D09-5CCD-4B2F-AB46-D4A630BDE4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DBF19B11-E5FC-4ACF-A580-F934F43DA1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6025E2E-38E5-4E58-BFB8-4F9D0950C9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76BA188-2D18-42C5-9AF7-CC99836EEA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AF4A282-4CAC-42F7-9238-C260D065EF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7E4522C-CF7E-4189-8272-2EF2880B46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3BFD7B4-2D89-4CF5-A9F8-10A031DA45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460D83BF-CAC3-42CC-AB7E-451A6E5009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BBBFC3A-FF82-44E9-9997-39DEB7E4A9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FBC3E4A-FB9D-4211-B7C4-045BE44BFD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3A6BA00-3480-442F-A8B3-9EB28D4CD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5D90BC84-092A-453E-8BF7-FE4F2D62D5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AFA68D9-1E64-4402-BEC9-746B043545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1463E74-BF1F-46D0-9628-08A7330CA8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7322443-E219-4B08-AB80-A73C35FCAC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BB4026C-AA39-41D5-987A-EDD39AC01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C398-B593-485B-8035-CB47C79D7A2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570A-889D-4944-A547-EBB3F71340A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0.png"/><Relationship Id="rId1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aking development a bit further</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31D4DC3-2B62-4089-A198-399442C473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03320"/>
            <a:ext cx="1656000" cy="2317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Remember this map?</a:t>
            </a:r>
            <a:endParaRPr b="0" lang="en-US" sz="3200" spc="-1" strike="noStrike">
              <a:solidFill>
                <a:srgbClr val="006666"/>
              </a:solidFill>
              <a:latin typeface="Comic Sans MS"/>
            </a:endParaRPr>
          </a:p>
        </p:txBody>
      </p:sp>
      <p:pic>
        <p:nvPicPr>
          <p:cNvPr id="182" name="" descr=""/>
          <p:cNvPicPr/>
          <p:nvPr/>
        </p:nvPicPr>
        <p:blipFill>
          <a:blip r:embed="rId1"/>
          <a:srcRect l="3716" t="0" r="3696" b="0"/>
          <a:stretch/>
        </p:blipFill>
        <p:spPr>
          <a:xfrm>
            <a:off x="1692360" y="333360"/>
            <a:ext cx="7200720" cy="4667400"/>
          </a:xfrm>
          <a:prstGeom prst="rect">
            <a:avLst/>
          </a:prstGeom>
          <a:ln w="0">
            <a:noFill/>
          </a:ln>
        </p:spPr>
      </p:pic>
      <p:sp>
        <p:nvSpPr>
          <p:cNvPr id="183" name="PlaceHolder 2"/>
          <p:cNvSpPr>
            <a:spLocks noGrp="1"/>
          </p:cNvSpPr>
          <p:nvPr>
            <p:ph/>
          </p:nvPr>
        </p:nvSpPr>
        <p:spPr>
          <a:xfrm>
            <a:off x="321840" y="4868640"/>
            <a:ext cx="8642520" cy="1655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ff0000"/>
                </a:solidFill>
                <a:latin typeface="Comic Sans MS"/>
              </a:rPr>
              <a:t>red ones</a:t>
            </a:r>
            <a:r>
              <a:rPr b="0" lang="en-GB" sz="2400" spc="-1" strike="noStrike">
                <a:solidFill>
                  <a:srgbClr val="006699"/>
                </a:solidFill>
                <a:latin typeface="Comic Sans MS"/>
              </a:rPr>
              <a:t> are called HICs – this stands for </a:t>
            </a:r>
            <a:r>
              <a:rPr b="0" lang="en-GB" sz="2400" spc="-1" strike="noStrike">
                <a:solidFill>
                  <a:srgbClr val="ff0000"/>
                </a:solidFill>
                <a:latin typeface="Comic Sans MS"/>
              </a:rPr>
              <a:t>h</a:t>
            </a:r>
            <a:r>
              <a:rPr b="0" lang="en-GB" sz="2400" spc="-1" strike="noStrike">
                <a:solidFill>
                  <a:srgbClr val="006699"/>
                </a:solidFill>
                <a:latin typeface="Comic Sans MS"/>
              </a:rPr>
              <a:t>igh </a:t>
            </a:r>
            <a:r>
              <a:rPr b="0" lang="en-GB" sz="2400" spc="-1" strike="noStrike">
                <a:solidFill>
                  <a:srgbClr val="ff0000"/>
                </a:solidFill>
                <a:latin typeface="Comic Sans MS"/>
              </a:rPr>
              <a:t>i</a:t>
            </a:r>
            <a:r>
              <a:rPr b="0" lang="en-GB" sz="2400" spc="-1" strike="noStrike">
                <a:solidFill>
                  <a:srgbClr val="006699"/>
                </a:solidFill>
                <a:latin typeface="Comic Sans MS"/>
              </a:rPr>
              <a:t>ncome </a:t>
            </a:r>
            <a:r>
              <a:rPr b="0" lang="en-GB" sz="2400" spc="-1" strike="noStrike">
                <a:solidFill>
                  <a:srgbClr val="ff0000"/>
                </a:solidFill>
                <a:latin typeface="Comic Sans MS"/>
              </a:rPr>
              <a:t>c</a:t>
            </a:r>
            <a:r>
              <a:rPr b="0" lang="en-GB" sz="2400" spc="-1" strike="noStrike">
                <a:solidFill>
                  <a:srgbClr val="006699"/>
                </a:solidFill>
                <a:latin typeface="Comic Sans MS"/>
              </a:rPr>
              <a:t>ountries; The </a:t>
            </a:r>
            <a:r>
              <a:rPr b="0" lang="en-GB" sz="2400" spc="-1" strike="noStrike">
                <a:solidFill>
                  <a:srgbClr val="ff6600"/>
                </a:solidFill>
                <a:latin typeface="Comic Sans MS"/>
              </a:rPr>
              <a:t>orange ones</a:t>
            </a:r>
            <a:r>
              <a:rPr b="0" lang="en-GB" sz="2400" spc="-1" strike="noStrike">
                <a:solidFill>
                  <a:srgbClr val="006699"/>
                </a:solidFill>
                <a:latin typeface="Comic Sans MS"/>
              </a:rPr>
              <a:t> are called MICs – this stands for </a:t>
            </a:r>
            <a:r>
              <a:rPr b="0" lang="en-GB" sz="2400" spc="-1" strike="noStrike">
                <a:solidFill>
                  <a:srgbClr val="ff6600"/>
                </a:solidFill>
                <a:latin typeface="Comic Sans MS"/>
              </a:rPr>
              <a:t>m</a:t>
            </a:r>
            <a:r>
              <a:rPr b="0" lang="en-GB" sz="2400" spc="-1" strike="noStrike">
                <a:solidFill>
                  <a:srgbClr val="006699"/>
                </a:solidFill>
                <a:latin typeface="Comic Sans MS"/>
              </a:rPr>
              <a:t>iddle </a:t>
            </a:r>
            <a:r>
              <a:rPr b="0" lang="en-GB" sz="2400" spc="-1" strike="noStrike">
                <a:solidFill>
                  <a:srgbClr val="ff6600"/>
                </a:solidFill>
                <a:latin typeface="Comic Sans MS"/>
              </a:rPr>
              <a:t>i</a:t>
            </a:r>
            <a:r>
              <a:rPr b="0" lang="en-GB" sz="2400" spc="-1" strike="noStrike">
                <a:solidFill>
                  <a:srgbClr val="006699"/>
                </a:solidFill>
                <a:latin typeface="Comic Sans MS"/>
              </a:rPr>
              <a:t>ncome </a:t>
            </a:r>
            <a:r>
              <a:rPr b="0" lang="en-GB" sz="2400" spc="-1" strike="noStrike">
                <a:solidFill>
                  <a:srgbClr val="ff6600"/>
                </a:solidFill>
                <a:latin typeface="Comic Sans MS"/>
              </a:rPr>
              <a:t>c</a:t>
            </a:r>
            <a:r>
              <a:rPr b="0" lang="en-GB" sz="2400" spc="-1" strike="noStrike">
                <a:solidFill>
                  <a:srgbClr val="006699"/>
                </a:solidFill>
                <a:latin typeface="Comic Sans MS"/>
              </a:rPr>
              <a:t>ountries; The </a:t>
            </a:r>
            <a:r>
              <a:rPr b="0" lang="en-GB" sz="2400" spc="-1" strike="noStrike">
                <a:solidFill>
                  <a:srgbClr val="d5d000"/>
                </a:solidFill>
                <a:latin typeface="Comic Sans MS"/>
              </a:rPr>
              <a:t>yellow ones</a:t>
            </a:r>
            <a:r>
              <a:rPr b="0" lang="en-GB" sz="2400" spc="-1" strike="noStrike">
                <a:solidFill>
                  <a:srgbClr val="006699"/>
                </a:solidFill>
                <a:latin typeface="Comic Sans MS"/>
              </a:rPr>
              <a:t> are LICs – this stands for </a:t>
            </a:r>
            <a:r>
              <a:rPr b="0" lang="en-GB" sz="2400" spc="-1" strike="noStrike">
                <a:solidFill>
                  <a:srgbClr val="d5d000"/>
                </a:solidFill>
                <a:latin typeface="Comic Sans MS"/>
              </a:rPr>
              <a:t>l</a:t>
            </a:r>
            <a:r>
              <a:rPr b="0" lang="en-GB" sz="2400" spc="-1" strike="noStrike">
                <a:solidFill>
                  <a:srgbClr val="006699"/>
                </a:solidFill>
                <a:latin typeface="Comic Sans MS"/>
              </a:rPr>
              <a:t>ow </a:t>
            </a:r>
            <a:r>
              <a:rPr b="0" lang="en-GB" sz="2400" spc="-1" strike="noStrike">
                <a:solidFill>
                  <a:srgbClr val="d5d000"/>
                </a:solidFill>
                <a:latin typeface="Comic Sans MS"/>
              </a:rPr>
              <a:t>i</a:t>
            </a:r>
            <a:r>
              <a:rPr b="0" lang="en-GB" sz="2400" spc="-1" strike="noStrike">
                <a:solidFill>
                  <a:srgbClr val="006699"/>
                </a:solidFill>
                <a:latin typeface="Comic Sans MS"/>
              </a:rPr>
              <a:t>ncome </a:t>
            </a:r>
            <a:r>
              <a:rPr b="0" lang="en-GB" sz="2400" spc="-1" strike="noStrike">
                <a:solidFill>
                  <a:srgbClr val="d5d0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p:txBody>
      </p:sp>
      <p:sp>
        <p:nvSpPr>
          <p:cNvPr id="184" name=""/>
          <p:cNvSpPr/>
          <p:nvPr/>
        </p:nvSpPr>
        <p:spPr>
          <a:xfrm>
            <a:off x="324000" y="2492280"/>
            <a:ext cx="1223640" cy="2089080"/>
          </a:xfrm>
          <a:prstGeom prst="wedgeRoundRectCallout">
            <a:avLst>
              <a:gd name="adj1" fmla="val 125226"/>
              <a:gd name="adj2" fmla="val -345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types of country is each one you chos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8C869949-EA1B-4F05-9328-E36E113788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Can you think up a rule about life expectancy and development (in terms of their income)?</a:t>
            </a:r>
            <a:endParaRPr b="1" lang="en-US" sz="4400" spc="-1" strike="noStrike">
              <a:solidFill>
                <a:srgbClr val="006666"/>
              </a:solidFill>
              <a:latin typeface="Comic Sans MS"/>
            </a:endParaRPr>
          </a:p>
        </p:txBody>
      </p:sp>
      <p:sp>
        <p:nvSpPr>
          <p:cNvPr id="3" name="PlaceHolder 2"/>
          <p:cNvSpPr>
            <a:spLocks noGrp="1"/>
          </p:cNvSpPr>
          <p:nvPr>
            <p:ph type="sldNum" idx="2"/>
          </p:nvPr>
        </p:nvSpPr>
        <p:spPr/>
        <p:txBody>
          <a:bodyPr/>
          <a:p>
            <a:fld id="{B348E07C-8F05-41C3-B136-3F5CC1440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79280" y="260280"/>
            <a:ext cx="8964720" cy="3676680"/>
          </a:xfrm>
          <a:prstGeom prst="rect">
            <a:avLst/>
          </a:prstGeom>
          <a:ln w="0">
            <a:noFill/>
          </a:ln>
        </p:spPr>
      </p:pic>
      <p:sp>
        <p:nvSpPr>
          <p:cNvPr id="187" name=""/>
          <p:cNvSpPr/>
          <p:nvPr/>
        </p:nvSpPr>
        <p:spPr>
          <a:xfrm>
            <a:off x="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
        <p:nvSpPr>
          <p:cNvPr id="188" name="PlaceHolder 1"/>
          <p:cNvSpPr>
            <a:spLocks noGrp="1"/>
          </p:cNvSpPr>
          <p:nvPr>
            <p:ph/>
          </p:nvPr>
        </p:nvSpPr>
        <p:spPr>
          <a:xfrm>
            <a:off x="250920" y="4221000"/>
            <a:ext cx="8642160" cy="2376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graph showing the changes in life expectancy at birth in 1965 and 1998</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Just looking at the graph for each, what was it in 1965, in 1998 and what is the differenc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has made the most progress?</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4F95D491-D571-428B-821B-A09F2BBAF6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560" y="475920"/>
            <a:ext cx="46083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tween 1980 and 1998,         the world's average life expectancy at birth rose from 61 to 67 years, with the most dramatic increases occurring in the low- and middle-income countr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was becaus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creased access to nutritious foo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rimary health care--including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fe water,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nitation,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ntibiotics and other medicines, an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mmunization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ducation </a:t>
            </a:r>
            <a:endParaRPr b="0" lang="en-US" sz="2000" spc="-1" strike="noStrike">
              <a:solidFill>
                <a:srgbClr val="006699"/>
              </a:solidFill>
              <a:latin typeface="Comic Sans MS"/>
            </a:endParaRPr>
          </a:p>
          <a:p>
            <a:pPr marL="343080" indent="-343080">
              <a:lnSpc>
                <a:spcPct val="80000"/>
              </a:lnSpc>
              <a:spcBef>
                <a:spcPts val="499"/>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lain much of the difference</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190" name="PlaceHolder 2"/>
          <p:cNvSpPr>
            <a:spLocks noGrp="1"/>
          </p:cNvSpPr>
          <p:nvPr>
            <p:ph/>
          </p:nvPr>
        </p:nvSpPr>
        <p:spPr>
          <a:xfrm>
            <a:off x="4932360" y="2421000"/>
            <a:ext cx="3960720" cy="417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important to note, however, that although the world's average life expectancy at birth was 67 years, individual countries can vary large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n Rwanda, life expectancy at birth in 1998 was 41 years, while in Japan it was 81 years.</a:t>
            </a:r>
            <a:endParaRPr b="0" lang="en-US" sz="2400" spc="-1" strike="noStrike">
              <a:solidFill>
                <a:srgbClr val="006699"/>
              </a:solidFill>
              <a:latin typeface="Comic Sans MS"/>
            </a:endParaRPr>
          </a:p>
        </p:txBody>
      </p:sp>
      <p:pic>
        <p:nvPicPr>
          <p:cNvPr id="191" name="" descr=""/>
          <p:cNvPicPr/>
          <p:nvPr/>
        </p:nvPicPr>
        <p:blipFill>
          <a:blip r:embed="rId13"/>
          <a:stretch/>
        </p:blipFill>
        <p:spPr>
          <a:xfrm>
            <a:off x="4427640" y="333360"/>
            <a:ext cx="4608360" cy="1890720"/>
          </a:xfrm>
          <a:prstGeom prst="rect">
            <a:avLst/>
          </a:prstGeom>
          <a:ln w="0">
            <a:noFill/>
          </a:ln>
        </p:spPr>
      </p:pic>
      <p:sp>
        <p:nvSpPr>
          <p:cNvPr id="4" name="PlaceHolder 3"/>
          <p:cNvSpPr>
            <a:spLocks noGrp="1"/>
          </p:cNvSpPr>
          <p:nvPr>
            <p:ph type="sldNum" idx="1"/>
          </p:nvPr>
        </p:nvSpPr>
        <p:spPr/>
        <p:txBody>
          <a:bodyPr/>
          <a:p>
            <a:fld id="{50FB94D7-8FBF-4186-BD1F-6CA0FEFAD6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ll countries have experienced a rise in life expectancy at birth over the past two decad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ince 1980, seventeen countries-mostly in Sub-Saharan Africa and the former Soviet Union-have actually experienced a declin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se nations, problems such as economic depression in the former Soviet Union and AIDS in Sub-Saharan Africa, have overcome the progress previously made in people's living condition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Sub-Saharan country of Botswana, for example, where one out of every three adults is infected with HIV, the virus that causes AIDS, life expectancy at birth decreased by fifteen years between 1987 and 1998 after it had been rising steadily for more than thirty years.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2F1CE3A0-6E19-4027-B37B-1693B451E2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urviving Childhood</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graph shows the deaths                                                          before the age of 1 per 1000                                                                           live births</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overall living                                                                     conditions are improving and                                                           more and more infants in low-                                                            and middle-income countries are surviving, these babies are still much more likely to die within their first year than are those in high-income countr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rinking water is still often unsafe, and unsanitary conditions are still common.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egnant women, nursing mothers, and infants may not get enough nutritious food.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mily planning and other health and educational services -especially for girls-may be lacking or unaffordabl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of these factors work against the health and strength of women and their babies.</a:t>
            </a:r>
            <a:endParaRPr b="0" lang="en-US" sz="2400" spc="-1" strike="noStrike">
              <a:solidFill>
                <a:srgbClr val="006699"/>
              </a:solidFill>
              <a:latin typeface="Comic Sans MS"/>
            </a:endParaRPr>
          </a:p>
        </p:txBody>
      </p:sp>
      <p:pic>
        <p:nvPicPr>
          <p:cNvPr id="195" name="" descr=""/>
          <p:cNvPicPr/>
          <p:nvPr/>
        </p:nvPicPr>
        <p:blipFill>
          <a:blip r:embed="rId7"/>
          <a:stretch/>
        </p:blipFill>
        <p:spPr>
          <a:xfrm>
            <a:off x="4959360" y="115920"/>
            <a:ext cx="4149720" cy="2544840"/>
          </a:xfrm>
          <a:prstGeom prst="rect">
            <a:avLst/>
          </a:prstGeom>
          <a:ln w="0">
            <a:noFill/>
          </a:ln>
        </p:spPr>
      </p:pic>
      <p:sp>
        <p:nvSpPr>
          <p:cNvPr id="4" name="PlaceHolder 3"/>
          <p:cNvSpPr>
            <a:spLocks noGrp="1"/>
          </p:cNvSpPr>
          <p:nvPr>
            <p:ph type="sldNum" idx="1"/>
          </p:nvPr>
        </p:nvSpPr>
        <p:spPr/>
        <p:txBody>
          <a:bodyPr/>
          <a:p>
            <a:fld id="{FAB31B8F-EDC8-4325-9C52-E698B56E36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3320"/>
            <a:ext cx="525636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hild mortality</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 mortality rates - the number                                                                of children who die between ages                                                                 1 and 5 per 1,000 children-are                                                               much higher for girls in some                                                                  countries than for boys, even                                                  though when they are treated equally, more girls survive</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lu, pneumonia, and common diarrhoea cause many deaths; so do cholera and malaria. Children, especially those suffering from malnutrition, are most at risk. </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ny children are not immunized against deadly  infectious diseases such as  diphtheria, measles, polio,  tetanus,  typhoid, tuberculosis, and whooping cough.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some cultures where parents prefer sons over daughters, boys receive a larger share of the limited family resources. They get more food and better health care, including immunizations. </a:t>
            </a:r>
            <a:endParaRPr b="0" lang="en-US" sz="2400" spc="-1" strike="noStrike">
              <a:solidFill>
                <a:srgbClr val="006699"/>
              </a:solidFill>
              <a:latin typeface="Comic Sans MS"/>
            </a:endParaRPr>
          </a:p>
        </p:txBody>
      </p:sp>
      <p:pic>
        <p:nvPicPr>
          <p:cNvPr id="198" name="" descr=""/>
          <p:cNvPicPr/>
          <p:nvPr/>
        </p:nvPicPr>
        <p:blipFill>
          <a:blip r:embed="rId5"/>
          <a:stretch/>
        </p:blipFill>
        <p:spPr>
          <a:xfrm>
            <a:off x="5580000" y="46080"/>
            <a:ext cx="3490920" cy="2306520"/>
          </a:xfrm>
          <a:prstGeom prst="rect">
            <a:avLst/>
          </a:prstGeom>
          <a:ln w="0">
            <a:noFill/>
          </a:ln>
        </p:spPr>
      </p:pic>
      <p:sp>
        <p:nvSpPr>
          <p:cNvPr id="4" name="PlaceHolder 3"/>
          <p:cNvSpPr>
            <a:spLocks noGrp="1"/>
          </p:cNvSpPr>
          <p:nvPr>
            <p:ph type="sldNum" idx="1"/>
          </p:nvPr>
        </p:nvSpPr>
        <p:spPr/>
        <p:txBody>
          <a:bodyPr/>
          <a:p>
            <a:fld id="{CBBFB1E9-54E6-4B12-9A48-9B424DF519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f more newborn babies lived</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might be the effect on each of the following? Give reasons for your respons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umber of productive adults in 15 or 20 year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ttitudes of parents about having children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hool enrolment in five or six year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eed for jobs in 15 or 20 years </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titudes toward family planning </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educational costs </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need for food </a:t>
            </a:r>
            <a:endParaRPr b="0" lang="en-US" sz="2800" spc="-1" strike="noStrike">
              <a:solidFill>
                <a:srgbClr val="006699"/>
              </a:solidFill>
              <a:latin typeface="Comic Sans MS"/>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country's need for food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5E1E588-BDFD-4CCD-8970-125BFB87D1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Living to Old Age</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0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ren who live past their fifth birthday have a much greater chance of living to adulthood and old age because their bodies are stronger and better able to fight off the disea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nger a person lives, the greater his or her chances of reaching older ages. For example, someone who is 90 is much more likely to reach 100 than someone who is 50.</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fe-threatening events and personal habits reduce the chances of living a long, productive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countries succeeded in improving the infant and under-5 mortality rates between 1980 and 1998 but still saw the life expectancy dropping, often due to HIV/AIDS and tuberculosi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AF80D66-FEFB-430B-80B6-C2AE9BFB7E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said that they used to think just measuring GDP told you all you needed to know about how developed a country was</a:t>
            </a:r>
            <a:endParaRPr b="0" lang="en-US" sz="3600" spc="-1" strike="noStrike">
              <a:solidFill>
                <a:srgbClr val="006666"/>
              </a:solidFill>
              <a:latin typeface="Comic Sans MS"/>
            </a:endParaRPr>
          </a:p>
        </p:txBody>
      </p:sp>
      <p:sp>
        <p:nvSpPr>
          <p:cNvPr id="204" name="PlaceHolder 2"/>
          <p:cNvSpPr>
            <a:spLocks noGrp="1"/>
          </p:cNvSpPr>
          <p:nvPr>
            <p:ph/>
          </p:nvPr>
        </p:nvSpPr>
        <p:spPr>
          <a:xfrm>
            <a:off x="250920" y="2133720"/>
            <a:ext cx="8642160" cy="44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hey realised that the standard of living and quality of life counted – in other words, not just how much money a country had but what they did with it.</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re recently still, it has come to be realized that it is not just what you have now that counts but how well the world well develop in the fut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e hear a lot about another sort of development – what is tha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F92B3E3-F357-4543-BC5E-3A9703050C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velopment being defined a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the ‘process by which countries become rich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40 or so years ago, the statisticians started to measure the GDP per capita</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thought that would tell all they needed to know!</a:t>
            </a:r>
            <a:endParaRPr b="0" lang="en-US" sz="3200" spc="-1" strike="noStrike">
              <a:solidFill>
                <a:srgbClr val="006699"/>
              </a:solidFill>
              <a:latin typeface="Comic Sans MS"/>
            </a:endParaRPr>
          </a:p>
        </p:txBody>
      </p:sp>
      <p:sp>
        <p:nvSpPr>
          <p:cNvPr id="167" name=""/>
          <p:cNvSpPr/>
          <p:nvPr/>
        </p:nvSpPr>
        <p:spPr>
          <a:xfrm>
            <a:off x="5724360" y="4437000"/>
            <a:ext cx="2303640" cy="1079640"/>
          </a:xfrm>
          <a:prstGeom prst="wedgeRoundRectCallout">
            <a:avLst>
              <a:gd name="adj1" fmla="val -34976"/>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GDP per capita?</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9DB89C30-5528-4306-A420-601C674C45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000" y="333360"/>
            <a:ext cx="8064360" cy="56167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So now we need a new definition</a:t>
            </a:r>
            <a:br>
              <a:rPr sz="4400"/>
            </a:br>
            <a:r>
              <a:rPr b="0" i="1" lang="en-US" sz="4400" spc="-1" strike="noStrike">
                <a:solidFill>
                  <a:srgbClr val="006666"/>
                </a:solidFill>
                <a:latin typeface="Comic Sans MS"/>
              </a:rPr>
              <a:t>"Sustainable development is development that meets the needs of the present without compromising the ability of future generations to meet their own needs."</a:t>
            </a:r>
            <a:br>
              <a:rPr sz="4400"/>
            </a:br>
            <a:endParaRPr b="1" lang="en-US" sz="4400" spc="-1" strike="noStrike">
              <a:solidFill>
                <a:srgbClr val="006666"/>
              </a:solidFill>
              <a:latin typeface="Comic Sans MS"/>
            </a:endParaRPr>
          </a:p>
        </p:txBody>
      </p:sp>
      <p:sp>
        <p:nvSpPr>
          <p:cNvPr id="206" name=""/>
          <p:cNvSpPr/>
          <p:nvPr/>
        </p:nvSpPr>
        <p:spPr>
          <a:xfrm>
            <a:off x="611280" y="5373720"/>
            <a:ext cx="4608360" cy="863640"/>
          </a:xfrm>
          <a:prstGeom prst="wedgeRoundRectCallout">
            <a:avLst>
              <a:gd name="adj1" fmla="val -23578"/>
              <a:gd name="adj2" fmla="val -11727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yone like to try and say that more simply?</a:t>
            </a:r>
            <a:endParaRPr b="0" lang="en-US" sz="2400" spc="-1" strike="noStrike">
              <a:solidFill>
                <a:srgbClr val="006699"/>
              </a:solidFill>
              <a:latin typeface="Arial"/>
            </a:endParaRPr>
          </a:p>
        </p:txBody>
      </p:sp>
      <p:sp>
        <p:nvSpPr>
          <p:cNvPr id="3" name="PlaceHolder 2"/>
          <p:cNvSpPr>
            <a:spLocks noGrp="1"/>
          </p:cNvSpPr>
          <p:nvPr>
            <p:ph type="sldNum" idx="2"/>
          </p:nvPr>
        </p:nvSpPr>
        <p:spPr/>
        <p:txBody>
          <a:bodyPr/>
          <a:p>
            <a:fld id="{036874D0-6F2F-4B78-9DA2-14F6252BC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at quote came fro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orld Commission on Environment and Development’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rundtland Commission)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987</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Quite a long time ago, but no-one really took it seriously until quite recently</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mentions ‘</a:t>
            </a:r>
            <a:r>
              <a:rPr b="1" i="1" lang="en-US" sz="3200" spc="-1" strike="noStrike">
                <a:solidFill>
                  <a:srgbClr val="006699"/>
                </a:solidFill>
                <a:latin typeface="Comic Sans MS"/>
              </a:rPr>
              <a:t>needs of the present</a:t>
            </a:r>
            <a:r>
              <a:rPr b="0" lang="en-US" sz="3200" spc="-1" strike="noStrike">
                <a:solidFill>
                  <a:srgbClr val="006699"/>
                </a:solidFill>
                <a:latin typeface="Comic Sans MS"/>
              </a:rPr>
              <a:t>’‘</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think these might be?</a:t>
            </a:r>
            <a:endParaRPr b="0" lang="en-US" sz="3200" spc="-1" strike="noStrike">
              <a:solidFill>
                <a:srgbClr val="006699"/>
              </a:solidFill>
              <a:latin typeface="Comic Sans MS"/>
            </a:endParaRPr>
          </a:p>
        </p:txBody>
      </p:sp>
      <p:sp>
        <p:nvSpPr>
          <p:cNvPr id="208" name=""/>
          <p:cNvSpPr/>
          <p:nvPr/>
        </p:nvSpPr>
        <p:spPr>
          <a:xfrm>
            <a:off x="2675160" y="5802480"/>
            <a:ext cx="1920600" cy="5094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teboar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A315A0A8-6515-434E-A7C3-30EBF27909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 was hoping might happen ..</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was that some of the needs might conflict with one anoth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clean air might conflict with wanting a car to dri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would you choose, and how would you make your decis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within ourselves, we have conflicting needs, how much is that multiplied when we look at a whole community, city, country, worl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instance, what do you do when one country’s need for electricity results in acid rain that damages another country's lakes and river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23B6989-583E-4EA5-9655-470C94DD3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3320"/>
            <a:ext cx="8713800" cy="1309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ok at the diagram of needs:</a:t>
            </a:r>
            <a:br>
              <a:rPr sz="4000"/>
            </a:br>
            <a:r>
              <a:rPr b="0" lang="en-US" sz="4000" spc="-1" strike="noStrike">
                <a:solidFill>
                  <a:srgbClr val="006666"/>
                </a:solidFill>
                <a:latin typeface="Comic Sans MS"/>
              </a:rPr>
              <a:t>Social, economic and environmental</a:t>
            </a:r>
            <a:endParaRPr b="0" lang="en-US" sz="4000" spc="-1" strike="noStrike">
              <a:solidFill>
                <a:srgbClr val="006666"/>
              </a:solidFill>
              <a:latin typeface="Comic Sans MS"/>
            </a:endParaRPr>
          </a:p>
        </p:txBody>
      </p:sp>
      <p:pic>
        <p:nvPicPr>
          <p:cNvPr id="212" name="" descr=""/>
          <p:cNvPicPr/>
          <p:nvPr/>
        </p:nvPicPr>
        <p:blipFill>
          <a:blip r:embed="rId1"/>
          <a:stretch/>
        </p:blipFill>
        <p:spPr>
          <a:xfrm>
            <a:off x="324000" y="1874880"/>
            <a:ext cx="8424720" cy="4433760"/>
          </a:xfrm>
          <a:prstGeom prst="rect">
            <a:avLst/>
          </a:prstGeom>
          <a:ln w="0">
            <a:noFill/>
          </a:ln>
        </p:spPr>
      </p:pic>
      <p:sp>
        <p:nvSpPr>
          <p:cNvPr id="213" name=""/>
          <p:cNvSpPr/>
          <p:nvPr/>
        </p:nvSpPr>
        <p:spPr>
          <a:xfrm>
            <a:off x="5651640" y="1628640"/>
            <a:ext cx="2736720" cy="1465560"/>
          </a:xfrm>
          <a:prstGeom prst="rect">
            <a:avLst/>
          </a:prstGeom>
          <a:noFill/>
          <a:ln w="2844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Verdana"/>
              </a:rPr>
              <a:t>Carrying capacity.</a:t>
            </a:r>
            <a:r>
              <a:rPr b="0" lang="en-US" sz="1800" spc="-1" strike="noStrike">
                <a:solidFill>
                  <a:srgbClr val="339933"/>
                </a:solidFill>
                <a:latin typeface="Verdana"/>
              </a:rPr>
              <a:t> The population that an area will support without damaging the environment </a:t>
            </a:r>
            <a:endParaRPr b="0" lang="en-US" sz="1800" spc="-1" strike="noStrike">
              <a:solidFill>
                <a:srgbClr val="006699"/>
              </a:solidFill>
              <a:latin typeface="Arial"/>
            </a:endParaRPr>
          </a:p>
        </p:txBody>
      </p:sp>
      <p:sp>
        <p:nvSpPr>
          <p:cNvPr id="214" name=""/>
          <p:cNvSpPr/>
          <p:nvPr/>
        </p:nvSpPr>
        <p:spPr>
          <a:xfrm>
            <a:off x="395280" y="1413000"/>
            <a:ext cx="3097080" cy="2376360"/>
          </a:xfrm>
          <a:prstGeom prst="wedgeRoundRectCallout">
            <a:avLst>
              <a:gd name="adj1" fmla="val -34162"/>
              <a:gd name="adj2" fmla="val 6456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n anyone pick out a need in one column that conflicts with a need in another colum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BD39ECB3-E52A-459D-B38D-1CD54D7E56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primary goal for sustainable development is for people to live longer, more productive, more satisfying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impossible if they do not have the resources to ensure the health and well being of themselves and their famil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verty has a major impact on life expectanc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governments and families cannot afford enough quality health care, education, and nutritious food, people cannot reach their full potential, either in productivity or length and quality of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addition, extreme poverty increases the likelihood of war and political instability, which threatens lives--and the quality of life-- as well.</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8ADFFC5-766D-4290-9072-B54BB4FF17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are also close links between the environment and life expectancy since we depend on natural resources such as safe water, clean air, fertile soil, and fuel to sustain lif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ck of safe water is a major cause of illness and death in low- and middle-income countries, especially among children and the elder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luted air from a variety of sources such as wood fires, industrial production, and car exhaust causes lung disease and associated illness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eas with overworked or eroded soil may not be able to produce enough nutritious food to support growing popula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lack of clean fuel for cooking, boiling water, or producing heat can seriously affect people's ability to thriv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5A7E9A9-C699-4042-8BCE-B1B964D2F2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125000"/>
            <a:ext cx="864216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erience has shown that campaigns teaching about the prevention of illness is one of the most effective and least expensive way to improve health. </a:t>
            </a:r>
            <a:endParaRPr b="0" lang="en-US" sz="2400" spc="-1" strike="noStrike">
              <a:solidFill>
                <a:srgbClr val="006699"/>
              </a:solidFill>
              <a:latin typeface="Comic Sans MS"/>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Uganda's AIDS Commiss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the late 1990s, about 1/10 of Uganda’s 20.4 million people had died of AIDS, and 1.7 million children had lost their mothers or both parents to AI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1986 the government of Uganda created an AIDS Commission which ran an educational campaign to prevent and treat sexually transmitted diseases, distribute condoms and develop local centres for HIV counselling and testing.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ission encouraged churches, unions, and businesses to carry out educational program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1998, the adult rate of infection had fallen to 9.5 percent (less than half), a much lower rate than the other countries in Africa most affected by the AIDS epidemic.</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82227F8-8DF6-4560-A764-A5290BFAD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same time, education is critical because these campaigns have the greatest impact when literacy and education are widesprea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educated people are more likely to gain access to other key factors that help increase life expectancy such as safe water, sanitation, immunizations, medical care, and nutritious foo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ducation of women helps them to provide better care for their children and to pass on knowledge that will improve their children's lives. </a:t>
            </a:r>
            <a:endParaRPr b="0" lang="en-US" sz="2800" spc="-1" strike="noStrike">
              <a:solidFill>
                <a:srgbClr val="006699"/>
              </a:solidFill>
              <a:latin typeface="Comic Sans MS"/>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ucated women also tend to have smaller, healthier famil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4B86AA8-057B-4C3F-BFB0-8571CB9309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munization against infectious diseases has done a lot to improve life expectancy</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mpaigns in the past 50 years successfully eliminated smallpox, and polio has disappeared in many area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when countries relax immunization efforts or fail to immunize all children, infectious diseases remain a thre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emerging diseases such as HIV/AIDS and tobacco-related illnesses take stronger holds in low- and middle-income countries, governments and communities are having to make difficult decisions about how to use their scarce resourc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ice of medical research and care for the victims of these diseases is staggering even for wealthy countries. For many, the best option is to put their efforts into education and preven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99D369B-D10E-49CD-B280-777D8698A6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have mentioned that sustainability has gained in importanc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so important, that as we came up to the year 2000, the United Nations decided that they were going to try and do something very special to mark the turn of the Millenniu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called their special idea the Millennium Development Goal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 want you to try and find out a little about what they are and make a collage of the ideas they are trying to achieve- in PowerPoint - make sure your name appears somewhere on the pos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70216C5-F551-439F-B483-A357F43D1C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y got around to the idea that standard of living and quality of life came into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difference between those 2? What kind of things would you list under each on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we came to the idea that development is the improvements in standard of living and quality of life but that most of the indicators we could use to measure these depend directly or indirectly from a country becoming ric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94A183A-BFAB-4A29-86AC-A0C6E60F57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is is not completely true</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Quality of life is the general well-being of a person. It include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tandard of life but also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ccess to education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alth care,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ailability of  the utilities </a:t>
            </a:r>
            <a:endParaRPr b="0" lang="en-US" sz="2400" spc="-1" strike="noStrike">
              <a:solidFill>
                <a:srgbClr val="006699"/>
              </a:solidFill>
              <a:latin typeface="Comic Sans MS"/>
            </a:endParaRPr>
          </a:p>
          <a:p>
            <a:pPr lvl="2" marL="1143000" indent="-228600">
              <a:lnSpc>
                <a:spcPct val="90000"/>
              </a:lnSpc>
              <a:spcBef>
                <a:spcPts val="499"/>
              </a:spcBef>
              <a:buSzPct val="1048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e. electricity,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ater,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ubbish collection, </a:t>
            </a:r>
            <a:endParaRPr b="0" lang="en-US" sz="20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also political and religious freedo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cial opportunitie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nvironmental quality</a:t>
            </a:r>
            <a:endParaRPr b="0" lang="en-US" sz="2400" spc="-1" strike="noStrike">
              <a:solidFill>
                <a:srgbClr val="006699"/>
              </a:solidFill>
              <a:latin typeface="Comic Sans MS"/>
            </a:endParaRPr>
          </a:p>
          <a:p>
            <a:pPr marL="343080" indent="-343080">
              <a:lnSpc>
                <a:spcPct val="90000"/>
              </a:lnSpc>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of these do not depend on mone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153C3D1-F3E9-490B-B4EC-B0ECBEB41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ife expectancy and GDP and development</a:t>
            </a:r>
            <a:endParaRPr b="1" lang="en-US" sz="4800" spc="-1" strike="noStrike">
              <a:solidFill>
                <a:srgbClr val="006666"/>
              </a:solidFill>
              <a:latin typeface="Comic Sans MS"/>
            </a:endParaRPr>
          </a:p>
        </p:txBody>
      </p:sp>
      <p:sp>
        <p:nvSpPr>
          <p:cNvPr id="17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4CC6C66-2A92-4C27-9709-9804B0BCB9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worldwide has risen on average by 4 months each year since 1970. </a:t>
            </a:r>
            <a:endParaRPr b="0" lang="en-US" sz="3200" spc="-1" strike="noStrike">
              <a:solidFill>
                <a:srgbClr val="006699"/>
              </a:solidFill>
              <a:latin typeface="Comic Sans MS"/>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fant mortality rates fell from 80 per 1000 live births in 1980, to 54 per 1000 in 1998. </a:t>
            </a:r>
            <a:endParaRPr b="0" lang="en-US" sz="3200" spc="-1" strike="noStrike">
              <a:solidFill>
                <a:srgbClr val="006699"/>
              </a:solidFill>
              <a:latin typeface="Comic Sans MS"/>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omen tend to outlive men by 5 to 8 years in the countries with the highest life expectancies, but by only 0 to 3 years in countries where life expectancy is low. </a:t>
            </a:r>
            <a:endParaRPr b="0" lang="en-US" sz="3200" spc="-1" strike="noStrike">
              <a:solidFill>
                <a:srgbClr val="006699"/>
              </a:solidFill>
              <a:latin typeface="Comic Sans MS"/>
            </a:endParaRPr>
          </a:p>
          <a:p>
            <a:pPr lvl="1" marL="727920" indent="-280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y do you think that i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AE455D6-D48C-4B89-880E-E76785026B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260280"/>
            <a:ext cx="8208720" cy="6337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at birth is the average number of years a newborn infant would be expected to live if health and living conditions at the time of its birth remained the same throughout its lif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reflects the health of a country's people and the quality of care they receive when they are sick.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is higher in high-income countries than in all but a few low- and middle-income countries.</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B2406982-0353-4F07-812D-A32776A58A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4797000"/>
            <a:ext cx="8642160" cy="1800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on the map represents countries with higher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represents countries with lowest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assumptions might you make about living conditions in the region with the lowest life expectancies </a:t>
            </a:r>
            <a:endParaRPr b="0" lang="en-US" sz="2000" spc="-1" strike="noStrike">
              <a:solidFill>
                <a:srgbClr val="006699"/>
              </a:solidFill>
              <a:latin typeface="Comic Sans MS"/>
            </a:endParaRPr>
          </a:p>
        </p:txBody>
      </p:sp>
      <p:pic>
        <p:nvPicPr>
          <p:cNvPr id="178" name="" descr=""/>
          <p:cNvPicPr/>
          <p:nvPr/>
        </p:nvPicPr>
        <p:blipFill>
          <a:blip r:embed="rId4"/>
          <a:stretch/>
        </p:blipFill>
        <p:spPr>
          <a:xfrm>
            <a:off x="250920" y="333360"/>
            <a:ext cx="8713800" cy="4357800"/>
          </a:xfrm>
          <a:prstGeom prst="rect">
            <a:avLst/>
          </a:prstGeom>
          <a:ln w="0">
            <a:noFill/>
          </a:ln>
        </p:spPr>
      </p:pic>
      <p:sp>
        <p:nvSpPr>
          <p:cNvPr id="3" name="PlaceHolder 2"/>
          <p:cNvSpPr>
            <a:spLocks noGrp="1"/>
          </p:cNvSpPr>
          <p:nvPr>
            <p:ph type="sldNum" idx="1"/>
          </p:nvPr>
        </p:nvSpPr>
        <p:spPr/>
        <p:txBody>
          <a:bodyPr/>
          <a:p>
            <a:fld id="{AB140874-7870-4132-BB35-6A11CBB98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42920" y="60480"/>
            <a:ext cx="8893080" cy="4448160"/>
          </a:xfrm>
          <a:prstGeom prst="rect">
            <a:avLst/>
          </a:prstGeom>
          <a:ln w="0">
            <a:noFill/>
          </a:ln>
        </p:spPr>
      </p:pic>
      <p:sp>
        <p:nvSpPr>
          <p:cNvPr id="180" name="PlaceHolder 1"/>
          <p:cNvSpPr>
            <a:spLocks noGrp="1"/>
          </p:cNvSpPr>
          <p:nvPr>
            <p:ph/>
          </p:nvPr>
        </p:nvSpPr>
        <p:spPr>
          <a:xfrm>
            <a:off x="250920" y="4581000"/>
            <a:ext cx="864216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ing your world map to help, look at the Map and list five countries in which life expectancy at birth is less than 55 years, five in which it is between 55 and 64 years, five in which it is 65 to 69 years, and five in which it is 70 years or mor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210572F7-34F0-4835-8E7B-75D88B3165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22:44:43Z</dcterms:created>
  <dc:creator>Lindy</dc:creator>
  <dc:description/>
  <dc:language>en-US</dc:language>
  <cp:lastModifiedBy>Lindy</cp:lastModifiedBy>
  <dcterms:modified xsi:type="dcterms:W3CDTF">2009-11-13T14:14:17Z</dcterms:modified>
  <cp:revision>7</cp:revision>
  <dc:subject/>
  <dc:title>Taking development a bit fur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